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1137-15AD-4585-8359-88E5E4E5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EB15-BF61-42C1-917B-1C5ABAD6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1C61-4295-4D05-BED5-56A5DEAD0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A1F3-19AA-4A98-A5A2-AC32DF70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1364-523A-413A-A1C4-8EC5BDD4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A5F4-D8EE-4360-96EE-43B1B113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0512-43E2-4786-AFA4-016F9CE2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E0AB-BE67-425B-8F08-222CEC9F2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4F6E-0EF6-484F-B943-264BF2A0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C7D3-F878-46C4-8E4E-22D34B04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A5E9-91CB-4AA3-AD76-2BE8567C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5E1-CFB2-442B-8BA7-9B05F37B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6A8DD-F635-4E6A-9B49-7697DF9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4A80-FCC2-4AF3-845B-39751663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477B-2413-451C-A24A-0DA6A6A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CEAF-C208-43BD-835A-B2DD9615C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4FBC-1E8F-47A8-B256-E24582F5D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72EB-67BB-4D62-977C-EB8D6360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D891-1BD0-4C19-9066-F7C2CD9E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54D-312F-4A72-8A37-4EFB6837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308F-D272-4C88-9FE8-48170CDC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237E-AC19-4486-9828-8C19C871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F493-1E60-43B5-B0B6-F522C3E5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8532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91F4-458A-4BD4-BF20-CBF9AC36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3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55D5-4B4A-467D-B217-3EF1F51EBE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6859-56DA-4B47-9952-32ABDA4CC53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Hyperlink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and Litera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600" y="5105520"/>
            <a:ext cx="9104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Jason Niemiec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EDUC 604 Reading in the Content Area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Holy Family University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69696"/>
                </a:solidFill>
                <a:latin typeface="Arial"/>
              </a:rPr>
              <a:t>Dr. Gross</a:t>
            </a:r>
            <a:endParaRPr b="0" i="1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59840" y="22860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04.06.10</a:t>
            </a: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actice: Forced 265wp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sat on a wall,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Humpty Dumpty had a great fall.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All the king's horses and all the king's men</a:t>
            </a:r>
            <a:br>
              <a:rPr sz="3200"/>
            </a:b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ouldn't put Humpty together agai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4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80"/>
                            </p:stCondLst>
                            <p:childTnLst>
                              <p:par>
                                <p:cTn id="33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940"/>
                            </p:stCondLst>
                            <p:childTnLst>
                              <p:par>
                                <p:cTn id="44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7">
                                  <p:stCondLst>
                                    <p:cond delay="50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-64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ere did Humpty Dumpty Sit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Wall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Chair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In Dr. Gross’ class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e was Standing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Who tried to put Humpty Dumpty back together?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Mrs. Butterworth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Bonnie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ll the King’s Horses and Me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buClr>
                <a:srgbClr val="969696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Nobody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  <a:p>
            <a:pPr lvl="1" marL="971640" indent="-514440">
              <a:spcBef>
                <a:spcPts val="6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09" name="Picture 2" descr="C:\Documents and Settings\Jason\Local Settings\Temporary Internet Files\Content.IE5\5G4B01GD\MCj04240640000[1].wmf"/>
          <p:cNvPicPr/>
          <p:nvPr/>
        </p:nvPicPr>
        <p:blipFill>
          <a:blip r:embed="rId1"/>
          <a:stretch/>
        </p:blipFill>
        <p:spPr>
          <a:xfrm>
            <a:off x="2286000" y="914400"/>
            <a:ext cx="4702320" cy="4786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Hyperlin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yperlinks</a:t>
            </a: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 are a useful tool!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vide support for vocabulary challeng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Promote higher cogni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2" name="Picture 3" descr="hyperlinks.jpg"/>
          <p:cNvPicPr/>
          <p:nvPr/>
        </p:nvPicPr>
        <p:blipFill>
          <a:blip r:embed="rId2"/>
          <a:stretch/>
        </p:blipFill>
        <p:spPr>
          <a:xfrm>
            <a:off x="29718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net: WebQue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Structured activities to search certain knowledge on the internet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Free to browse embedded link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Gives a sense of freedom, increasing motivat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imbed learning and organizational tool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69696"/>
                </a:solidFill>
                <a:latin typeface="Arial"/>
              </a:rPr>
              <a:t>Helps promote student condition and literacy performanc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blems and Challeng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Mone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ffective for school use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everyone can use technology fluentl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Not all educators are supporter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reful with internet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Glitchy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17" name="Picture 3" descr="C:\Documents and Settings\Jason\Local Settings\Temporary Internet Files\Content.IE5\ZT108DL5\MPj04429310000[1].jpg"/>
          <p:cNvPicPr/>
          <p:nvPr/>
        </p:nvPicPr>
        <p:blipFill>
          <a:blip r:embed="rId1"/>
          <a:stretch/>
        </p:blipFill>
        <p:spPr>
          <a:xfrm>
            <a:off x="5867280" y="3108240"/>
            <a:ext cx="2374920" cy="31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all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chnology can be a wonderful thing if properly used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Many resources availabl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reat way to get students involved in the classroom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pplications will continue to improve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blems with decrease as people debug and more technology is integrated into classroom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eachers should incorporate Technolog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Help students prepare for the worl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mote outstanding educational standard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vide an exceptional education to our Students!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20" name="Picture 3" descr="C:\Documents and Settings\Jason\Local Settings\Temporary Internet Files\Content.IE5\RN2KTTQU\MCj04115420000[1].wmf"/>
          <p:cNvPicPr/>
          <p:nvPr/>
        </p:nvPicPr>
        <p:blipFill>
          <a:blip r:embed="rId1"/>
          <a:stretch/>
        </p:blipFill>
        <p:spPr>
          <a:xfrm>
            <a:off x="7162920" y="2971800"/>
            <a:ext cx="1838160" cy="184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orks Cit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Anderson, Rebecca &amp; Balajthy, Ernest (2009, March).  Stories About Struggling Readers and Technology.  The Reading Teacher, 62(6), 540-542.  doi:  10.1598/RT.62.6.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Ediger, Marlow (2002).  Computers, Technology, and the Reading Curriculum.  Retrieved from ERIC Database (ED 4468 442)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Husni, Husniza &amp; Jamaludin, Zulikha (2009, June).  ASR Technology for Children with Dyslexia: Enabling immediate intervention to support reading in Bahasa Melayu. US-China Education Review , 6(6), 64-70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Kolowich, Steve (2010, February 23).  News: Highlighting E-Readers - Inside Higher Ed.  Retrieved from http://www.insidehighered.com/layout/set/print/news/2010/02/23/ereaders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7, November).  Impact of SMART Board Technology: An Investigation of Sight Word Reading and Observational Learning.  Journal of Autism and Developmental Disorders, 37(10), 1869-82. doi: 10.1007/s10803-007-0361-9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Mechling, Linda C., Gast, David L., &amp; Krupa, Kristin (2008).  Comparison of the Effects of SMART Board Technology and Flash Card Instruction on Sight Word Recognition and Observational Learning.  Journal of Special Education Technology, 23(1) p. 34-46.  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chweder Windy &amp; Wissick, Cheryl A.  (2008). Content Area Applications. Journal of Special Education Technology, 23(4), 53-61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 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okal, Laura &amp; Katz, Herb (2008, April).  Effects of Technology and Male Teachers on Boy’s Reading.  Australian Journal of Education, 52(1), 81-94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StepWare (2010).  Targeting Specific Challenges.  Ace Reader: Electrifying Your Mind.  Retrieved from http://www.acereader.com/education/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969696"/>
                </a:solidFill>
                <a:latin typeface="Arial"/>
              </a:rPr>
              <a:t>Vacca, Richard T. &amp; Vacca, Jo Anne L. (2008). Content Area Reading: Literacy and Learning Across the Curriculum.  New York: Pearson.</a:t>
            </a: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 Black"/>
              </a:rPr>
              <a:t>Why should we use Technology?</a:t>
            </a:r>
            <a:endParaRPr b="0" lang="en-US" sz="39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Using a variety of technological can improve fluency and comprehension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Anderson and Balajthy, 2009; Ediger, 2002; Schweder and Wissick, 2008; Vacca and Vacca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Greater chance for retention if technology is used in the reading curriculum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A number of students prefer learning with technology over alternative method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; Schweder and Wissick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Technology alone cannot have drastic effects on students, but when paired with proven teaching methods, it becomes a valuable resource for teacher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okal and Katz, 2008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Highly interactive and promotes motivation</a:t>
            </a:r>
            <a:endParaRPr b="0" i="1" lang="en-US" sz="27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refore, Teacher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0" name="Diagram 3" descr=""/>
          <p:cNvPicPr/>
          <p:nvPr/>
        </p:nvPicPr>
        <p:blipFill>
          <a:blip r:embed="rId1"/>
          <a:stretch/>
        </p:blipFill>
        <p:spPr>
          <a:xfrm>
            <a:off x="378000" y="669960"/>
            <a:ext cx="8242200" cy="5597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Content Placeholder 3" descr=""/>
          <p:cNvPicPr/>
          <p:nvPr/>
        </p:nvPicPr>
        <p:blipFill>
          <a:blip r:embed="rId1"/>
          <a:stretch/>
        </p:blipFill>
        <p:spPr>
          <a:xfrm>
            <a:off x="-19080" y="712800"/>
            <a:ext cx="9182160" cy="570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SMART Boar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active whiteboard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Presents lesson on large 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creen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hile using sounds, videos, a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ternet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In a study by Mechling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Gast, and Krupa (2008),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oderately disabled students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were able to learn words more effectively and with greater accuracy on the SMART Board than when taught using Flash Cards.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are able to match objects to printed words and vise versa more effective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Mechling, Gast, and Krupa, 200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Makes learning materials “come alive” </a:t>
            </a:r>
            <a:r>
              <a:rPr b="0" i="1" lang="en-US" sz="1600" spc="-1" strike="noStrike">
                <a:solidFill>
                  <a:srgbClr val="969696"/>
                </a:solidFill>
                <a:latin typeface="Arial"/>
              </a:rPr>
              <a:t>(Williams and McClintic as cited in Mechling, Gast and Krupa, 2008, pg 44)</a:t>
            </a:r>
            <a:endParaRPr b="0" i="1" lang="en-US" sz="16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5" name="Picture 3" descr="SMART Board.jpg"/>
          <p:cNvPicPr/>
          <p:nvPr/>
        </p:nvPicPr>
        <p:blipFill>
          <a:blip r:embed="rId1"/>
          <a:stretch/>
        </p:blipFill>
        <p:spPr>
          <a:xfrm>
            <a:off x="4800600" y="533520"/>
            <a:ext cx="4343400" cy="32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rdware: Electronic Boo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-Books have electronic text displayed on a devis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lightly smaller than a standard textbook, but functions like a real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Eliminates students having to carry many large textbooks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Allows students to access reading assignments at any time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Can’t forget text book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Forfeit leaving a textbook behind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because it is too bulky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Longer and more difficult passages are </a:t>
            </a:r>
            <a:endParaRPr b="0" i="1" lang="en-US" sz="23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read more successfully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Greenlee-Moore and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Smith as cited in Vacca and Vacca, 2008, pg 42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969696"/>
                </a:solidFill>
                <a:latin typeface="Arial"/>
              </a:rPr>
              <a:t>Students respond positively to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Ediger, 2002; 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Mathews as cited in Vacca and Vacca, 2008, pg 247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98" name="Picture 3" descr="E-book.jpg"/>
          <p:cNvPicPr/>
          <p:nvPr/>
        </p:nvPicPr>
        <p:blipFill>
          <a:blip r:embed="rId1"/>
          <a:stretch/>
        </p:blipFill>
        <p:spPr>
          <a:xfrm>
            <a:off x="6053040" y="3124080"/>
            <a:ext cx="2826000" cy="3322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 Black"/>
              </a:rPr>
              <a:t>Software: Automatic Speech Recognition</a:t>
            </a:r>
            <a:endParaRPr b="0" lang="en-US" sz="3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rogram that uses a microphone to record voice of a student reading a passage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Analyses the speech in real time and gives instantaneous feedback.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Points out errors immediately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Gives immediate suggestions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The sooner corrections are delivered, the more beneficial for student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Students do not need to manually call for help 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969696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Husni and Jamaludin, 2009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Eliminates errors going unnoticed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969696"/>
                </a:solidFill>
                <a:latin typeface="Arial"/>
              </a:rPr>
              <a:t>Becoming a disadvantage to education</a:t>
            </a:r>
            <a:endParaRPr b="0" i="1" lang="en-US" sz="25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ftware: ARS Cont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ARS.wmv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Software: Timed Reading Program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Example: “Ace Reader” by StepWare Inc.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Improves fluency while maintaining comprehension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s passage and answer question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Reading rate and comprehension are charted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Can do eye exercises or forced reading rates</a:t>
            </a:r>
            <a:endParaRPr b="0" i="1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969696"/>
                </a:solidFill>
                <a:latin typeface="Arial"/>
              </a:rPr>
              <a:t>They use a variety of techniques to accommodate different learning styles and disabilities </a:t>
            </a:r>
            <a:r>
              <a:rPr b="0" i="1" lang="en-US" sz="1800" spc="-1" strike="noStrike">
                <a:solidFill>
                  <a:srgbClr val="969696"/>
                </a:solidFill>
                <a:latin typeface="Arial"/>
              </a:rPr>
              <a:t>(StepWare, 2010)</a:t>
            </a:r>
            <a:endParaRPr b="0" i="1" lang="en-US" sz="18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3:11Z</dcterms:created>
  <dc:creator>J </dc:creator>
  <dc:description/>
  <cp:keywords/>
  <dc:language>en-US</dc:language>
  <cp:lastModifiedBy>J </cp:lastModifiedBy>
  <dcterms:modified xsi:type="dcterms:W3CDTF">2010-05-04T23:30:57Z</dcterms:modified>
  <cp:revision>15</cp:revision>
  <dc:subject/>
  <dc:title>Technology and Literac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2901033</vt:lpwstr>
  </property>
</Properties>
</file>